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6882-21DB-4921-BE72-802CB4DC9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870B-561A-4625-8B2B-87ACDD5ED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158-F5D0-4FF6-8034-9FD85F6D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0F3-FFA6-4DD8-B7B8-F2B46B84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656-C257-4A57-9263-E2669FFF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DC2-D86F-4AAB-96E0-9052D0DC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CBBC-4140-4B9B-9ECA-11C2503B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EF09-399F-4F82-9F53-9C7A1E5B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C94B-65CA-46FD-AC57-6B8493E7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1DCE-B169-4C00-B993-743A8A8D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9C61-0A6D-4F6C-8307-6EC204AD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95D5-E7B2-4B18-805B-29DF2E1A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3626-46E1-467D-93B6-19B57B44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C3CC-FBE8-4943-AAC1-02296CDC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7328-632F-40F8-BB6C-6086EE1A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FC71-7824-4A01-B4D4-75717FF4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0968-CD0F-4C7B-9C57-975CCA86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C1D-0621-4DD7-894D-FACB4634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172E-A593-4104-9307-FA94237B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55DE-7A8B-4F9E-A9A2-2A020B0C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C7B9-F72E-4620-B20C-9A723D0D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B8BA-B430-49D2-99C8-D5DB40CF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CABD-01F1-47EC-8332-BD943A92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7A4B-B953-424E-B61D-A276378B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EC9-4E99-4D85-9C08-797E7D0E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98018-1AAB-41EB-8EC1-286B47B4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2CDA-704E-4067-B62B-C9B5E9D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C76F7-E140-4E0E-AAA8-31B7485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016C-CAD4-4BE7-8DF8-7EC4747B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A8F9-2167-4D66-B60E-A1701B27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DC13-AA45-4D54-9097-E8DA43AD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9BC4-9DEB-48CF-BD2E-D6206C0F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CD49-5F1C-4AD3-9B7F-6FE800A6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049A-F019-4D64-9AC6-5B311F4A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E1F6-FA4D-43A8-B896-0AF790A8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592-9B51-4175-AC73-E4EFD105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42B2A-EA20-4175-924C-5B3CD85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2A359-AD16-4C55-9BFC-C44C8E78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B9AC-5B72-478B-8E44-2D739A94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94EF-29AD-4639-BB9B-298B06B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A539E-73FE-4647-89C7-10CF7750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222F-E073-4456-9D43-4CBF960F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F0479-7D8C-47E1-B6BA-02A5705B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13024-A81C-4EEF-BBA3-9063A314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0422-F614-463F-84DD-485D78F3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86B-08AD-4E82-92F4-2E9956AC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F80-351A-4351-ABEE-A2CFDFEC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3F1-0D63-4AB9-AC63-FED3FE81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2E7-4D31-4295-B255-7D2E279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1DA-0AC5-49E8-BBF3-0135B70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C7CB-31EE-4D40-B573-172D489ECD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249C-225F-4FF3-8F11-91391F6BAF7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E05C-293F-46F2-84DC-2EE75812E4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022F-92E0-4837-9FE8-C71A4236940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escription of project intervention sites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ject inception worksho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: Dr Birhanu, Gerba &amp; Kebe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LRI-Add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8 September 20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nilebdc.wikispaces.com/file/view/NBDC_MediumSize.jpg/164167277/NBDC_MediumSiz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evailing problems  &amp; opportunities for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intervent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752480"/>
          <a:ext cx="8458200" cy="4457880"/>
        </p:xfrm>
        <a:graphic>
          <a:graphicData uri="http://schemas.openxmlformats.org/drawingml/2006/table">
            <a:tbl>
              <a:tblPr/>
              <a:tblGrid>
                <a:gridCol w="1017720"/>
                <a:gridCol w="3993840"/>
                <a:gridCol w="3446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ssues(problem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pportun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e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vere land degradation &amp; high level of pov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age of farm/grazing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celerated erosion &amp; productivity dec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r land manag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owing soil ac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idespread food insecurity (23/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livestock popn with poor mng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vestock disease &amp; lack access to improved br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rratic &amp; errosive rainf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pansion of Eucalyptus pla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deal climate for introduction of highland fruits and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erous small streams &amp; rivers for expansion of irrig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owing awareness on intensification of livestock mng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vailable local market for livestock &amp; their produ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lative disease free area for potato &amp; access to its s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erging public interest for land &amp; water mng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cess to technology through research support (EI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&amp; opportunities…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04920" y="1447920"/>
          <a:ext cx="8458200" cy="4784760"/>
        </p:xfrm>
        <a:graphic>
          <a:graphicData uri="http://schemas.openxmlformats.org/drawingml/2006/table">
            <a:tbl>
              <a:tblPr/>
              <a:tblGrid>
                <a:gridCol w="1066680"/>
                <a:gridCol w="4191120"/>
                <a:gridCol w="3200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ssues/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pport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il erosion &amp; land degra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rm &amp; grazing land short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r land &amp; water management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il acidity and termite infest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r livestock mng’t (feed, health, popn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age of drinking water in few keb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vestock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croach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ood climate for growing cr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erous perennial rivers for irrigation dev’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arby market for livestock &amp; their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owing livestock tethering practice  that simplify intervention  for mng’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tension of gov’t effort on irrigation dev’t &amp; livestock fee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4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rge livestock popn &amp; associated feed shor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vestock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hortage of improved br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sence of NGO’s for promoting technologies (IPMS &amp; EWN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volvement of d/t research &amp; dev’t organ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equate water for irrig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ood awareness &amp; initiative on N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ajor Actors involved in the intervention sites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Constantia"/>
              </a:rPr>
              <a:t>a) Government line offic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Woreda Office of Administr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Woreda Office of Agriculture and Rural Developmen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Woreda Livestock production &amp; marketing Agenc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Woreda  office of rural water resource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Cooperative promotion offic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Regional government line offices (Agriculture, water) &amp; Seed enterpris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Federal and Regional Agricultural Research Institutes &amp; Universiti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bd0d9"/>
                </a:solidFill>
                <a:latin typeface="Constantia"/>
              </a:rPr>
              <a:t>b) Private Enterprises/Associ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Saving and credit Association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Veterinary clinics (area specific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Traders (Retail and wholesale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Major actors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Constantia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Farmers cooperative uni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6fc6"/>
                </a:solidFill>
                <a:latin typeface="Constantia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armer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NGOs (types and presence is area specifi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unger projec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pe 2020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Jeldu wored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P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EWNRA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Foger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No NGO is involving in Diga woreda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ight Brace 3"/>
          <p:cNvSpPr/>
          <p:nvPr/>
        </p:nvSpPr>
        <p:spPr>
          <a:xfrm>
            <a:off x="2819520" y="3809880"/>
            <a:ext cx="46080" cy="533520"/>
          </a:xfrm>
          <a:custGeom>
            <a:avLst/>
            <a:gdLst>
              <a:gd name="textAreaLeft" fmla="*/ 0 w 46080"/>
              <a:gd name="textAreaRight" fmla="*/ 16560 w 46080"/>
              <a:gd name="textAreaTop" fmla="*/ 1080 h 533520"/>
              <a:gd name="textAreaBottom" fmla="*/ 5324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7"/>
                  <a:pt x="10800" y="154"/>
                </a:cubicBezTo>
                <a:lnTo>
                  <a:pt x="10800" y="10646"/>
                </a:lnTo>
                <a:cubicBezTo>
                  <a:pt x="10800" y="10723"/>
                  <a:pt x="16200" y="10800"/>
                  <a:pt x="21600" y="10800"/>
                </a:cubicBezTo>
                <a:cubicBezTo>
                  <a:pt x="16200" y="10800"/>
                  <a:pt x="10800" y="10877"/>
                  <a:pt x="10800" y="10954"/>
                </a:cubicBezTo>
                <a:lnTo>
                  <a:pt x="10800" y="21446"/>
                </a:lnTo>
                <a:cubicBezTo>
                  <a:pt x="10800" y="2152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ight Brace 4"/>
          <p:cNvSpPr/>
          <p:nvPr/>
        </p:nvSpPr>
        <p:spPr>
          <a:xfrm>
            <a:off x="2133720" y="4419720"/>
            <a:ext cx="152280" cy="533160"/>
          </a:xfrm>
          <a:custGeom>
            <a:avLst/>
            <a:gdLst>
              <a:gd name="textAreaLeft" fmla="*/ 0 w 152280"/>
              <a:gd name="textAreaRight" fmla="*/ 55080 w 152280"/>
              <a:gd name="textAreaTop" fmla="*/ 6480 h 533160"/>
              <a:gd name="textAreaBottom" fmla="*/ 5266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2"/>
                  <a:pt x="10800" y="864"/>
                </a:cubicBezTo>
                <a:lnTo>
                  <a:pt x="10800" y="16416"/>
                </a:lnTo>
                <a:cubicBezTo>
                  <a:pt x="10800" y="16848"/>
                  <a:pt x="16200" y="17280"/>
                  <a:pt x="21600" y="17280"/>
                </a:cubicBezTo>
                <a:cubicBezTo>
                  <a:pt x="16200" y="17280"/>
                  <a:pt x="10800" y="17712"/>
                  <a:pt x="10800" y="18144"/>
                </a:cubicBezTo>
                <a:lnTo>
                  <a:pt x="10800" y="20736"/>
                </a:lnTo>
                <a:cubicBezTo>
                  <a:pt x="10800" y="2116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4" descr=""/>
          <p:cNvPicPr/>
          <p:nvPr/>
        </p:nvPicPr>
        <p:blipFill>
          <a:blip r:embed="rId1"/>
          <a:stretch/>
        </p:blipFill>
        <p:spPr>
          <a:xfrm>
            <a:off x="542880" y="1457280"/>
            <a:ext cx="7162920" cy="17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istribution of human population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2362320"/>
          <a:ext cx="8229600" cy="20271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men                Men                       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verage persons/H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e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2,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,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,6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,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,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8,9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7,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07" name="TextBox 4"/>
          <p:cNvSpPr/>
          <p:nvPr/>
        </p:nvSpPr>
        <p:spPr>
          <a:xfrm>
            <a:off x="685800" y="44197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urce: WoAR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istorical/occupational/ trend analysis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anduse/cover change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pulation has been booming over the last  few deca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est clearing for cultivation of terrain and fragile land has been concurrently growing particularly in Jeldu &amp; Diga woreda during the last couple of decad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cept &amp; practice of NRM has been introduced during the Derge regime  along with emerging disaster owing to natural and anthropogenic factors (the approach is, however, top-dow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than Fogera, the current efforts to arrest and reverse the growing land degradation problem is margi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all, the need for managing land &amp; water is emerging but constrained largely by shortage of resources and ski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edominant crops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and farming system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04920" y="1828800"/>
          <a:ext cx="8229600" cy="4206960"/>
        </p:xfrm>
        <a:graphic>
          <a:graphicData uri="http://schemas.openxmlformats.org/drawingml/2006/table">
            <a:tbl>
              <a:tblPr/>
              <a:tblGrid>
                <a:gridCol w="1231920"/>
                <a:gridCol w="1511280"/>
                <a:gridCol w="1676160"/>
                <a:gridCol w="1981440"/>
                <a:gridCol w="1828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dominant crops alo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gro-ecolog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ighland         Midland             Lowland/FP/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e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rley, wheat, potato-livesto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at, barley, teff-live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rghum, maize, teff-live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ed crop-livestock system is  a common practice for all si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ff, millet, maize-live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ize, sorghum, sesame-livesto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arley, Niger seed, wheat, –live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ce, maize, millet, teff-livesto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TextBox 4"/>
          <p:cNvSpPr/>
          <p:nvPr/>
        </p:nvSpPr>
        <p:spPr>
          <a:xfrm>
            <a:off x="762120" y="6324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ource: WoARD           * Flood plain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anduse patterns of the study sit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Content Placeholder 4" descr=""/>
          <p:cNvPicPr/>
          <p:nvPr/>
        </p:nvPicPr>
        <p:blipFill>
          <a:blip r:embed="rId1"/>
          <a:stretch/>
        </p:blipFill>
        <p:spPr>
          <a:xfrm>
            <a:off x="378000" y="1974960"/>
            <a:ext cx="82357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Livestock population of the wored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Content Placeholder 4" descr=""/>
          <p:cNvPicPr/>
          <p:nvPr/>
        </p:nvPicPr>
        <p:blipFill>
          <a:blip r:embed="rId1"/>
          <a:stretch/>
        </p:blipFill>
        <p:spPr>
          <a:xfrm>
            <a:off x="450720" y="1925640"/>
            <a:ext cx="8242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rop-livestock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contribution to the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ivelihood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(source of income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2438280"/>
          <a:ext cx="7391520" cy="296388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ercent contribution (on averag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vest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o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l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racterizing rainfall, altitude &amp;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gro ecolog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57200" y="1935000"/>
          <a:ext cx="8229600" cy="3856320"/>
        </p:xfrm>
        <a:graphic>
          <a:graphicData uri="http://schemas.openxmlformats.org/drawingml/2006/table">
            <a:tbl>
              <a:tblPr/>
              <a:tblGrid>
                <a:gridCol w="1447920"/>
                <a:gridCol w="2666880"/>
                <a:gridCol w="1905120"/>
                <a:gridCol w="2209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ean annual RF (mm) &amp; its distribu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ltitude (m as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gro-ecology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0-1350 (seldom unpredictable with erratic &amp; erosive na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25-3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land (25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land  (30)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ghland  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4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76-2037 (uniform and &amp; torrenti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40-2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land (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land 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6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74-1516 (Fluctuate/errat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74-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land/plain(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7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ghland (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nd feature &amp; soil ty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57200" y="1935000"/>
          <a:ext cx="8001000" cy="3581640"/>
        </p:xfrm>
        <a:graphic>
          <a:graphicData uri="http://schemas.openxmlformats.org/drawingml/2006/table">
            <a:tbl>
              <a:tblPr/>
              <a:tblGrid>
                <a:gridCol w="1333440"/>
                <a:gridCol w="3259080"/>
                <a:gridCol w="3408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Wore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Land fe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oil typ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l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dulating /ro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verse shallow soil (Leptic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idity is highly prevail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 fertility mng’t pract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dulating midland to relatively flat low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ynamic soil types b/c changes in landuse- Histic Nitosols *is comm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idity is widespread 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w fertility mng’t pract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g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lat plain  and steep high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ric vertisol (plain) &amp; leptosol (highland)*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23" name="TextBox 4"/>
          <p:cNvSpPr/>
          <p:nvPr/>
        </p:nvSpPr>
        <p:spPr>
          <a:xfrm>
            <a:off x="533520" y="61722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* Specific soil types will be verified in the futur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3:21:39Z</dcterms:created>
  <dc:creator>gleta</dc:creator>
  <dc:description/>
  <dc:language>en-US</dc:language>
  <cp:lastModifiedBy>gleta</cp:lastModifiedBy>
  <dcterms:modified xsi:type="dcterms:W3CDTF">2010-09-28T05:20:17Z</dcterms:modified>
  <cp:revision>69</cp:revision>
  <dc:subject/>
  <dc:title>Description of NBDC Project intervention sites  </dc:title>
</cp:coreProperties>
</file>